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dt" idx="16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18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9F3AA-4BE9-4F0E-88D1-4AB67FEDABB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F67FF-604C-419D-9219-F41F9DF2C15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B8E8B-6F23-44DF-BDDA-542E3D39F06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12706-54FA-4D7D-B7F0-B62AC18DADF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55489-CE5F-46D9-ACD6-16CA021DF8D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E7F-4DD6-417F-AE73-0EF1A34C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A93-77E4-4647-9C14-139A0FD3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B9B-42F9-4F6A-B130-9CCB8C1D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AF3-1059-4134-BC02-2FC7F3F7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A1AF-74DA-4800-B644-D74E06C3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D552-980D-446B-9C07-22E3378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ED90-433B-4166-B751-70D0A3B1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0EB3-7F4D-4017-9652-E326D20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445D-F9EC-4E57-BC5F-C8430244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45DE-2537-40CA-BC18-61B356FC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3F83-68D7-405A-A195-9B00C9D0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7B3-C509-422D-9448-D10B58F5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8CFD-4D94-4139-81EB-0F9A027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8F82-CC2B-4CDC-905C-C9B97DD7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6CAD-DCF1-4F2C-B1D5-D5E9B7D7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BF9E-9431-494E-BC09-AB4DBBBD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49A8-491F-454F-A0D0-D17CC9CC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94E95-C714-406C-A230-44EF87E5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132A9-D50E-4B4F-BA90-0F892E0D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A9AFC-3BC8-4715-9979-7EF82AA3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54CAC-84B2-4F46-9CE4-D696B503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6A4E1-0413-4F4B-9A31-E1A883E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69B-00F4-4210-ACB8-85BFA5BC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16B3F-28FC-423A-9F3F-6461C45A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B2E7A-1244-46B1-A9EB-A1E190D7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F5BAA-17E2-4CEA-9501-6F7E0A9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08F38-CAD2-4EFB-BFB2-DE14E0A8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A01C3-628F-4D3E-86B8-BE3ED5C4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41A76-9898-49F3-8386-EF3AAE31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01982-64FF-43EE-8AC1-5EE524DA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F4C51-1971-4857-BD15-3822DF58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E4A9E-A911-4E05-90E1-90A34153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990B9-564E-4EF9-B644-6C443A40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7D8-7BFE-4A1F-946C-35D129C4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1790-EF6B-4B0E-B63F-1E07BA29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2015F-BF20-4E9D-B454-A361D0B8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3920-AD42-415E-BDB7-6473088C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5D78-199A-4B57-8478-C9A80B66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1B08-F68D-48EB-B680-A1319B04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872B5-2FF7-47C7-94EF-17B291E0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68CA-5FFB-4E67-9D61-67224B8F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1E6F9-46BC-46F5-A536-24978952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22440-0DEB-48D4-A2A2-926AF19B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68DF-F089-4B72-92D1-6F31C042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94C-A76E-459B-BFDE-FAA6D1AB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7E335-9E74-41D4-A3CF-E88277A1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D52BB-9D2B-4645-A91E-01F54CEE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BBB16-0CCB-46B6-B5A1-D68BBAD8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2A3D3-C05B-4854-B966-63E74181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5621A-9CC2-41A8-90B1-01074E1C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7515-ADE6-46F7-A3B1-36BD450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A4BE5-7093-4B40-96DD-AC41D0D1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BD781-4A87-43B3-B1B0-15369D6E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C3008-5AC2-47D9-9DC9-12562EEC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DCB4-F328-41B5-9826-A3E193F1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50560" y="1133640"/>
            <a:ext cx="7743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702-4D61-4984-8C09-E15492EE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7668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02440" y="256068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5092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7668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02440" y="4581360"/>
            <a:ext cx="24051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78DD1-6A36-4078-A7C9-E2DE5C17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41D-B455-4D33-A5BB-9B14A198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8800" y="458136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7C5-7CD5-47D8-AF53-9F51CA6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092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8800" y="2560680"/>
            <a:ext cx="364536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0920" y="4581360"/>
            <a:ext cx="7470720" cy="184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160-2064-43EB-839E-5C294C5C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626040" y="-360"/>
            <a:ext cx="11530800" cy="7845840"/>
            <a:chOff x="-626040" y="-360"/>
            <a:chExt cx="11530800" cy="7845840"/>
          </a:xfrm>
        </p:grpSpPr>
        <p:grpSp>
          <p:nvGrpSpPr>
            <p:cNvPr id="1" name="Group 44"/>
            <p:cNvGrpSpPr/>
            <p:nvPr/>
          </p:nvGrpSpPr>
          <p:grpSpPr>
            <a:xfrm>
              <a:off x="84960" y="-360"/>
              <a:ext cx="10081080" cy="7560000"/>
              <a:chOff x="84960" y="-360"/>
              <a:chExt cx="10081080" cy="7560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4960" y="0"/>
                <a:ext cx="2772360" cy="7559640"/>
                <a:chOff x="84960" y="0"/>
                <a:chExt cx="2772360" cy="7559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109296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849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3696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51160" y="0"/>
                <a:ext cx="2772360" cy="7559640"/>
                <a:chOff x="551160" y="0"/>
                <a:chExt cx="2772360" cy="7559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55916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511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80316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7393680" y="-360"/>
                <a:ext cx="2772360" cy="7559640"/>
                <a:chOff x="7393680" y="-360"/>
                <a:chExt cx="2772360" cy="7559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739368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966204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907416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428544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327744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52944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7164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7164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868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7164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44152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38796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418608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419652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36672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500508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3660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1124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4292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94104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74960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7704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96192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758844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840780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840780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924300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924336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503280" y="368280"/>
            <a:ext cx="9074160" cy="6818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5029200" y="-23760"/>
            <a:ext cx="4054320" cy="7714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5126040" y="-23760"/>
            <a:ext cx="3863880" cy="6872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611760" y="247680"/>
            <a:ext cx="23529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5116680" y="6451560"/>
            <a:ext cx="38606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5125680" y="247680"/>
            <a:ext cx="1468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0765FA-1B02-43B1-B600-5EB03F58065D}" type="slidenum">
              <a:rPr b="0" lang="pt-BR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711720" y="-360"/>
            <a:ext cx="11530800" cy="7845840"/>
            <a:chOff x="-711720" y="-360"/>
            <a:chExt cx="11530800" cy="7845840"/>
          </a:xfrm>
        </p:grpSpPr>
        <p:grpSp>
          <p:nvGrpSpPr>
            <p:cNvPr id="84" name="Group 44"/>
            <p:cNvGrpSpPr/>
            <p:nvPr/>
          </p:nvGrpSpPr>
          <p:grpSpPr>
            <a:xfrm>
              <a:off x="-360" y="-360"/>
              <a:ext cx="10081080" cy="7560000"/>
              <a:chOff x="-360" y="-360"/>
              <a:chExt cx="10081080" cy="7560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-360" y="0"/>
                <a:ext cx="2772360" cy="7559640"/>
                <a:chOff x="-360" y="0"/>
                <a:chExt cx="2772360" cy="755964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10076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-3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516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65840" y="0"/>
                <a:ext cx="2772360" cy="7559640"/>
                <a:chOff x="465840" y="0"/>
                <a:chExt cx="2772360" cy="755964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4738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6584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7178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7308360" y="-360"/>
                <a:ext cx="2772360" cy="7559640"/>
                <a:chOff x="7308360" y="-360"/>
                <a:chExt cx="2772360" cy="755964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730836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957672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98884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420012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319212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44412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368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368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664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368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35584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33022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410040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411084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328104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91940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42228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556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724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85536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66392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68480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87624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750276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832212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832212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915732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915768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5029200" y="-23760"/>
            <a:ext cx="4054320" cy="69134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5126040" y="-23760"/>
            <a:ext cx="3863880" cy="254952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5127480" y="6711840"/>
            <a:ext cx="3864240" cy="8892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5127480" y="6711840"/>
            <a:ext cx="3864240" cy="8892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5223960" y="1671480"/>
            <a:ext cx="2351160" cy="82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846760" y="6305400"/>
            <a:ext cx="3121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5125680" y="6305400"/>
            <a:ext cx="7095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A36E68-6DC1-41A6-9836-FD628E70C434}" type="slidenum">
              <a:rPr b="0" lang="pt-BR" sz="13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711720" y="-360"/>
            <a:ext cx="11530800" cy="7845840"/>
            <a:chOff x="-711720" y="-360"/>
            <a:chExt cx="11530800" cy="7845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-360" y="-360"/>
              <a:ext cx="10081080" cy="7560000"/>
              <a:chOff x="-360" y="-360"/>
              <a:chExt cx="10081080" cy="7560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-360" y="0"/>
                <a:ext cx="2772360" cy="7559640"/>
                <a:chOff x="-360" y="0"/>
                <a:chExt cx="2772360" cy="755964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10076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-3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516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65840" y="0"/>
                <a:ext cx="2772360" cy="7559640"/>
                <a:chOff x="465840" y="0"/>
                <a:chExt cx="2772360" cy="755964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4738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6584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7178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7308360" y="-360"/>
                <a:ext cx="2772360" cy="7559640"/>
                <a:chOff x="7308360" y="-360"/>
                <a:chExt cx="2772360" cy="755964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730836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957672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98884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420012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319212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44412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368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368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664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368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35584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33022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410040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411084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328104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91940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42228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556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724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85536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66392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68480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87624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750276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832212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832212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915732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915768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5029200" y="-23760"/>
            <a:ext cx="4054320" cy="69134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5126040" y="-23760"/>
            <a:ext cx="3863880" cy="6872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98640" y="663480"/>
            <a:ext cx="3927240" cy="622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5127480" y="6711840"/>
            <a:ext cx="3864240" cy="8892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6611760" y="247680"/>
            <a:ext cx="23529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5125680" y="247680"/>
            <a:ext cx="1468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BCEDD6-40BD-4188-A338-6260975CFBA0}" type="slidenum">
              <a:rPr b="0" lang="pt-BR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5116680" y="6310440"/>
            <a:ext cx="38512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711720" y="-360"/>
            <a:ext cx="11530800" cy="7845840"/>
            <a:chOff x="-711720" y="-360"/>
            <a:chExt cx="11530800" cy="7845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-360" y="-360"/>
              <a:ext cx="10081080" cy="7560000"/>
              <a:chOff x="-360" y="-360"/>
              <a:chExt cx="10081080" cy="7560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-360" y="0"/>
                <a:ext cx="2772360" cy="7559640"/>
                <a:chOff x="-360" y="0"/>
                <a:chExt cx="2772360" cy="755964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10076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-3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516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65840" y="0"/>
                <a:ext cx="2772360" cy="7559640"/>
                <a:chOff x="465840" y="0"/>
                <a:chExt cx="2772360" cy="755964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47384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6584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71784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7308360" y="-360"/>
                <a:ext cx="2772360" cy="7559640"/>
                <a:chOff x="7308360" y="-360"/>
                <a:chExt cx="2772360" cy="755964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730836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957672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98884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420012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319212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44412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368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368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664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368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35584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33022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410040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411084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328104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91940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42228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556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724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85536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66392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68480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87624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750276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832212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832212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915732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915768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5029200" y="-23760"/>
            <a:ext cx="4054320" cy="69134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5126040" y="-23760"/>
            <a:ext cx="3863880" cy="6872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98640" y="663480"/>
            <a:ext cx="3927240" cy="62262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5127480" y="6711840"/>
            <a:ext cx="3864240" cy="8892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6611760" y="247680"/>
            <a:ext cx="23529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5116680" y="6310440"/>
            <a:ext cx="38512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5125680" y="247680"/>
            <a:ext cx="1468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EB9A42-B29A-4A85-B527-F0B9AE5DE14B}" type="slidenum">
              <a:rPr b="0" lang="pt-BR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626040" y="-360"/>
            <a:ext cx="11530800" cy="7845840"/>
            <a:chOff x="-626040" y="-360"/>
            <a:chExt cx="11530800" cy="7845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84960" y="-360"/>
              <a:ext cx="10081080" cy="7560000"/>
              <a:chOff x="84960" y="-360"/>
              <a:chExt cx="10081080" cy="7560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84960" y="0"/>
                <a:ext cx="2772360" cy="7559640"/>
                <a:chOff x="84960" y="0"/>
                <a:chExt cx="2772360" cy="755964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109296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849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3696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51160" y="0"/>
                <a:ext cx="2772360" cy="7559640"/>
                <a:chOff x="551160" y="0"/>
                <a:chExt cx="2772360" cy="755964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559160" y="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51160" y="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803160" y="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7393680" y="-360"/>
                <a:ext cx="2772360" cy="7559640"/>
                <a:chOff x="7393680" y="-360"/>
                <a:chExt cx="2772360" cy="755964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7393680" y="-360"/>
                  <a:ext cx="176436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9662040" y="-360"/>
                  <a:ext cx="50400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9074160" y="-360"/>
                  <a:ext cx="839880" cy="75596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4285440" y="0"/>
                <a:ext cx="310824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3277440" y="0"/>
                <a:ext cx="50400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529440" y="0"/>
                <a:ext cx="839880" cy="75596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71640" y="5550480"/>
              <a:ext cx="10081440" cy="129564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71640" y="3822480"/>
              <a:ext cx="10081440" cy="9817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8680" y="6217920"/>
              <a:ext cx="3312360" cy="13352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71640" y="5825160"/>
              <a:ext cx="10081440" cy="16297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441520" y="5657400"/>
              <a:ext cx="7698600" cy="189576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38796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418608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4196520" y="1755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366720" y="358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5005080" y="5934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36600" y="4631400"/>
              <a:ext cx="1390680" cy="153000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11240" y="5955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42920" y="3141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941040" y="4548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749600" y="59659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770480" y="315180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961920" y="172368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7588440" y="456912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8407800" y="597636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8407800" y="3162240"/>
              <a:ext cx="1765440" cy="1530000"/>
            </a:xfrm>
            <a:prstGeom prst="hexagon">
              <a:avLst>
                <a:gd name="adj" fmla="val 28553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9243000" y="4470480"/>
              <a:ext cx="1370880" cy="15300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9243360" y="1665720"/>
              <a:ext cx="1369080" cy="15307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503280" y="368280"/>
            <a:ext cx="9074160" cy="6818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5029200" y="-23760"/>
            <a:ext cx="4054320" cy="7714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5126040" y="-23760"/>
            <a:ext cx="3863880" cy="6872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1133640"/>
            <a:ext cx="7743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50920" y="2560680"/>
            <a:ext cx="7470720" cy="386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704880" indent="-3016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2" marL="100656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23840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4" marL="1460520" indent="-2509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5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6" marL="1460520" indent="-250920">
              <a:spcBef>
                <a:spcPts val="649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D9309D-0E2A-4F4C-AA6A-3518CD6D99C8}" type="slidenum">
              <a:rPr b="0" lang="pt-BR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pt-BR" sz="3200" spc="-1" strike="noStrike" u="sng">
                <a:solidFill>
                  <a:srgbClr val="94c600"/>
                </a:solidFill>
                <a:uFillTx/>
                <a:latin typeface="Arial"/>
                <a:ea typeface="Arial"/>
              </a:rPr>
              <a:t>TEMA 25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76000" y="176364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EE ERNESTO SOLON BORG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BANDEIRANTES – M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PROGETEC: RAUL C. NUN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pt-BR" sz="3200" spc="-1" strike="noStrike" u="sng">
                <a:solidFill>
                  <a:srgbClr val="94c600"/>
                </a:solidFill>
                <a:uFillTx/>
                <a:latin typeface="Century Gothic"/>
              </a:rPr>
              <a:t>POSSIBILIDADES DE AVALIAÇÃO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02920" y="161928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6640" bIns="50400" anchor="t">
            <a:normAutofit fontScale="84000"/>
          </a:bodyPr>
          <a:p>
            <a:pPr marL="362520" indent="-271800" algn="just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Com uma simples planilha de cálculo pode-se gerenciar a maioria dos dados numéricos e registros de avaliação e tarefas dos alunos. Isso pode ser feito coletando-se esses dados em classe e depois digitando-se os mesmos no seu computador ou diretamente em um notebook que pode ser levado para a sala de aula: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62520" indent="-271800" algn="just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Como muitos professores ainda mantém apenas registros em papel, e nem sempre têm suas cadernetas atualizadas, a criação de meios digitais de armazenamento de dados, onde essas informações possam ser compartilhada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pt-BR" sz="3200" spc="-1" strike="noStrike" u="sng">
                <a:solidFill>
                  <a:srgbClr val="94c600"/>
                </a:solidFill>
                <a:uFillTx/>
                <a:latin typeface="Arial"/>
                <a:ea typeface="Arial"/>
              </a:rPr>
              <a:t>AVALIAÇÕES QUE ACORRERAM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6640" bIns="504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AVALIAÇÃO INSTITUCIONAL: SAIEM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PRÉ-CONSELHO DE CLASSE: ALUNOS RESPONDERAM UM QUESTIONÁRIO ATRAVÉS DO GOOGLE.DOC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GRÁFICOS DE DESEMPENHO DOS ALUNOS;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GRÁFICOS DE UTILIZAÇÃO DA STE.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2920" y="394920"/>
            <a:ext cx="9070920" cy="94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pt-BR" sz="3200" spc="-1" strike="noStrike" u="sng">
                <a:solidFill>
                  <a:srgbClr val="94c600"/>
                </a:solidFill>
                <a:uFillTx/>
                <a:latin typeface="Arial"/>
                <a:ea typeface="Arial"/>
              </a:rPr>
              <a:t>SUGESTÕES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76000" y="140328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53880" indent="-26532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Transferir, aos poucos, os registros feitos em papel para o formato digital, usando documentos de texto e planilhas eletrônicas. Compartilhar com os colegas as suas ideias, planilhas e outros documentos;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-26532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Procurar informações na internet e dedicar em média uma hora diária para a aprendizagem e sugestões sobre o uso das tecnologias.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-265320">
              <a:lnSpc>
                <a:spcPct val="100000"/>
              </a:lnSpc>
              <a:spcBef>
                <a:spcPts val="751"/>
              </a:spcBef>
              <a:buClr>
                <a:srgbClr val="94c6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pt-BR" sz="3000" spc="-1" strike="noStrike">
                <a:solidFill>
                  <a:srgbClr val="3e3d2d"/>
                </a:solidFill>
                <a:latin typeface="Arial"/>
                <a:ea typeface="Arial"/>
              </a:rPr>
              <a:t>Disponibilizar horários específicos nas reuniões pedagógicas da escola para formação dos professores e promover oficinas pedagógicas tratando do uso das tecnologia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20:38:58Z</dcterms:created>
  <dc:creator>Eliane Neves</dc:creator>
  <dc:description/>
  <dc:language>en-US</dc:language>
  <cp:lastModifiedBy>ElianeRaul</cp:lastModifiedBy>
  <dcterms:modified xsi:type="dcterms:W3CDTF">2015-08-31T23:59:38Z</dcterms:modified>
  <cp:revision>1</cp:revision>
  <dc:subject/>
  <dc:title>TEMA 25</dc:title>
</cp:coreProperties>
</file>